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42560" y="125280"/>
            <a:ext cx="7597800" cy="42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42920" y="3966480"/>
            <a:ext cx="8858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800" y="148392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4292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81800" y="3966480"/>
            <a:ext cx="4322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3776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132600" y="148392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4292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3776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132600" y="3966480"/>
            <a:ext cx="2851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36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40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44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C:\Dokumente und Einstellungen\theres\Desktop\PPT_Startseite.jpg"/>
          <p:cNvPicPr/>
          <p:nvPr/>
        </p:nvPicPr>
        <p:blipFill>
          <a:blip r:embed="rId2"/>
          <a:stretch/>
        </p:blipFill>
        <p:spPr>
          <a:xfrm>
            <a:off x="-247680" y="0"/>
            <a:ext cx="9524880" cy="7153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8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12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16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20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24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28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7000" y="6500880"/>
            <a:ext cx="742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  <p:pic>
        <p:nvPicPr>
          <p:cNvPr id="320" name="Bild 4" descr="FH_Burgenland_Logo.jpg"/>
          <p:cNvPicPr/>
          <p:nvPr/>
        </p:nvPicPr>
        <p:blipFill>
          <a:blip r:embed="rId2"/>
          <a:stretch/>
        </p:blipFill>
        <p:spPr>
          <a:xfrm>
            <a:off x="7358040" y="5786280"/>
            <a:ext cx="1523880" cy="865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ssmann.at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feld 1"/>
          <p:cNvSpPr/>
          <p:nvPr/>
        </p:nvSpPr>
        <p:spPr>
          <a:xfrm>
            <a:off x="4359240" y="5398920"/>
            <a:ext cx="4784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54575"/>
                </a:solidFill>
                <a:latin typeface="Tahoma"/>
              </a:rPr>
              <a:t>Aktuelle Themen der IT</a:t>
            </a:r>
            <a:br>
              <a:rPr sz="2800"/>
            </a:br>
            <a:r>
              <a:rPr b="1" lang="de-DE" sz="2800" spc="-1" strike="noStrike">
                <a:solidFill>
                  <a:srgbClr val="054575"/>
                </a:solidFill>
                <a:latin typeface="Tahoma"/>
              </a:rPr>
              <a:t>Thema: Cloud Systeme</a:t>
            </a:r>
            <a:endParaRPr b="0" lang="en-US" sz="2800" spc="-1" strike="noStrike">
              <a:solidFill>
                <a:srgbClr val="05457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54575"/>
                </a:solidFill>
                <a:latin typeface="Tahoma"/>
              </a:rPr>
              <a:t>Kamil Glowinski, Christian Gossmann</a:t>
            </a:r>
            <a:endParaRPr b="0" lang="en-US" sz="1800" spc="-1" strike="noStrike">
              <a:solidFill>
                <a:srgbClr val="054575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oudDienste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Cloud Systeme Entwicklung von der Vernetzung zum Mobile Compu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IaaS, PaaS, Saa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Unterformen (DaaS, IDaaS, Huaa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Am bekanntesten Storage as Servi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Einteilung der Clouds in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oudDienste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Ziele, Vorteile und Nachteile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Performance, Plattformunabhängigkeit, Trust,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Geld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Software-Fehler / schwer zu debuggen bei Clou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Lizenz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Skalierbarkeit, Interoperabilität,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Kostenfaktoren bei allen Beteilig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Verfügbarkeit (des Rechenzentru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Haft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Verschlüsselu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oudDienste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42920" y="14839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Cloud Dienste als Speicherplatz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Wichtige Kriteri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- Standort der Server </a:t>
            </a:r>
            <a:r>
              <a:rPr b="1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 Rechtsicherhe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- Schnitt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- Kos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- Verschlüsselung / Datenschutz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ne Drive, Dropbox, Google Dr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wnCloud, SEAF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4575"/>
                </a:solidFill>
                <a:latin typeface="Tahoma"/>
              </a:rPr>
              <a:t>CloudDienste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42920" y="1469520"/>
            <a:ext cx="885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Cloud Dienste als Rechenleistun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Anbieter von Public Clouds sind die ganz großen globalen IT-Unternehmen, u.a. Amazon (EC2), Google, Microsoft, IBM oder Hewlett-Packard (zusammen mit Intel und Yahoo)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2560" y="125280"/>
            <a:ext cx="75978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54575"/>
                </a:solidFill>
                <a:latin typeface="Tahoma"/>
              </a:rPr>
              <a:t>Vielen Dank – laden Sie sich die Zusatzdaten: </a:t>
            </a:r>
            <a:r>
              <a:rPr b="1" lang="de-AT" sz="2400" spc="-1" strike="noStrike" u="sng">
                <a:solidFill>
                  <a:srgbClr val="000000"/>
                </a:solidFill>
                <a:uFillTx/>
                <a:latin typeface="Tahoma"/>
                <a:hlinkClick r:id="rId1"/>
              </a:rPr>
              <a:t>www.gossmann.at</a:t>
            </a:r>
            <a:r>
              <a:rPr b="1" lang="de-AT" sz="2400" spc="-1" strike="noStrike">
                <a:solidFill>
                  <a:srgbClr val="054575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54575"/>
              </a:solidFill>
              <a:latin typeface="Tahoma"/>
            </a:endParaRPr>
          </a:p>
        </p:txBody>
      </p:sp>
      <p:pic>
        <p:nvPicPr>
          <p:cNvPr id="489" name="Inhaltsplatzhalter 3" descr=""/>
          <p:cNvPicPr/>
          <p:nvPr/>
        </p:nvPicPr>
        <p:blipFill>
          <a:blip r:embed="rId2"/>
          <a:stretch/>
        </p:blipFill>
        <p:spPr>
          <a:xfrm>
            <a:off x="1274760" y="1225440"/>
            <a:ext cx="632160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0:50:04Z</dcterms:created>
  <dc:creator>fguttmann</dc:creator>
  <dc:description/>
  <dc:language>en-US</dc:language>
  <cp:lastModifiedBy>vollständiger name</cp:lastModifiedBy>
  <dcterms:modified xsi:type="dcterms:W3CDTF">2016-04-07T21:22:16Z</dcterms:modified>
  <cp:revision>376</cp:revision>
  <dc:subject/>
  <dc:title>Folie 1</dc:title>
</cp:coreProperties>
</file>